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B29-2011-43B6-819F-FC07AA65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681-A0D8-4418-BE96-89E4C6DC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FD4-924B-42FD-969E-2FB20513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660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146520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584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660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926160"/>
            <a:ext cx="253368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2C8-26EF-40D6-AC0B-82AF9133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1AB-8A76-43E8-8CEE-438A8605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AD6-1455-4E76-9385-1762B8D3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E8B-2DF2-431C-8EA5-91B1A4C2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34F-A1E4-43FD-9E3B-B53508A1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-360"/>
            <a:ext cx="7886880" cy="62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5A2-1D5B-45AF-AD64-ACAA2A95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C73-2076-4CDC-B543-043DA5E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2616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525-454D-491B-86BE-18FB7A9E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584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465200"/>
            <a:ext cx="384012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5840" y="3926160"/>
            <a:ext cx="7869240" cy="22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F60-1487-44EA-920C-74B166F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49CA-CB87-4C12-B2A4-ED36415BE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28560" y="-360"/>
            <a:ext cx="788688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Title 1" descr=""/>
          <p:cNvPicPr/>
          <p:nvPr/>
        </p:nvPicPr>
        <p:blipFill>
          <a:blip r:embed="rId2"/>
          <a:stretch/>
        </p:blipFill>
        <p:spPr>
          <a:xfrm>
            <a:off x="2724120" y="1676520"/>
            <a:ext cx="595008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54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основе полученных результатов важно наметить оптимально реализуемую работу со всеми участниками образовательных отношений. Следует принимать решение по подбору необходимых мероприятий, учитывая интересы самого обучающего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местно с родителями ребенка выбираются предложенные специалистами ППк ОО конкретные рекомендации и программы развития и обучения по оказанию необходимой помо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" descr="C:\Users\Сергей\Desktop\39bda1.jpg"/>
          <p:cNvPicPr/>
          <p:nvPr/>
        </p:nvPicPr>
        <p:blipFill>
          <a:blip r:embed="rId2"/>
          <a:stretch/>
        </p:blipFill>
        <p:spPr>
          <a:xfrm>
            <a:off x="5560920" y="4216320"/>
            <a:ext cx="3179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54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 составление индивидуального коррекционного маршрута, плана психолого-педагогического сопровождения с установленным срок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данном этапе педагогом-психологом намечается коррекционно-развивающая работа с ребенком или группой детей, разрабатываются рекомендации сотрудникам образовательной организации и родителям ребенка. Либо рекомендуется обращение в территориальную ПМПК для прохождения процедуры освидетельствования проблем в развитии ребенка и получения рекомендаций по созданию специальных образовательных услов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и с методическим рекомендациями письма МО РФ от 23.05.2016 г. № ВК- 1074/07 о совершенствовании деятельности ПМПК необходимо подготовить психологическое представление на обучающегося ОО в рекомендованной форм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ключение (представление) педагога-психолог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72840" y="395280"/>
            <a:ext cx="6900840" cy="62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ФИО ребенка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ата рождения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ата и время проведения обследования 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сутствие третьего лица (родителя, законного представитель)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Методики обследования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Особенности аффективно-личностной сферы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Контакт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Интерес 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собенности эмоционального реагирова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Преобладающий фон настроения 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Специфические симптомы ( не смотрит в глаза, грызет ногти, стереотипные движения, иное)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Способность к волевому усилию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Устойчивый/неустойчивый интерес к заданиям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Темп деятельности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Работоспособность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Внешние проявления утомления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Особенности психических процессов (гиперактивность, подвижность) 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Интеллектуально-мнестическая деятельность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инструкций 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ка в задании 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сть действий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и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переносу задания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емость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казываемой помощи (направляющая, стимулирующая, организующая, обучающая)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оказываемой помощи (в легком, умеренном, выраженном объеме) 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ная конкретность мышления 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жение процессов обобщения 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 вербализации своих рассуждений 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интеллекта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ий вывод: 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0"/>
            <a:ext cx="7886880" cy="3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едставление психолога для ПП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366560" y="288720"/>
            <a:ext cx="7148520" cy="61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О. ребёнка 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_________________________________ Класс (группа)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я родителей 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я педагога 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оведения, общения, привычки и интерес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ная ловкость 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: рука ____________ нога ________________ ухо_______________ глаз 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деятельности: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 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ичность 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ь 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 деятельности 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внимания 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амяти 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ая характеристика речи 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интеллектуального развития 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представления о пространственных и временных отношения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конструктивной деятельности, графической деятельности, рисунк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ошибки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исьме 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тении 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чете 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-личностные и мотивационно-волевые особенн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школьного психолога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уровень актуального развития, специфические особенности в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х сферах, рекомендации по коррекционной работ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___________________ Подпись _____________________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ts val="499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669960" y="-6480"/>
            <a:ext cx="7997760" cy="1354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45840" y="988560"/>
            <a:ext cx="78692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 психолог со своей стороны реализует коррекционно-реабилитационную функцию ППк 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тельной в работе педагога-психолога в рамках ППк является оценка эффективности коррекционно-развивающей работы по сопровождению детей с нарушениями и особенностями в развитии. Для этого проводится повторная диагностика, фиксирующая динамику в состоянии реб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" descr="C:\Users\Сергей\Desktop\Private-tuition1.jpg"/>
          <p:cNvPicPr/>
          <p:nvPr/>
        </p:nvPicPr>
        <p:blipFill>
          <a:blip r:embed="rId2"/>
          <a:stretch/>
        </p:blipFill>
        <p:spPr>
          <a:xfrm>
            <a:off x="5064120" y="3919680"/>
            <a:ext cx="385776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01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64720" y="930240"/>
            <a:ext cx="76503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е функции педагога-психолога в рамках ППк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Осуществляет диагностику особенностей психического развития учащихся, испытывающих трудности в овладении учебной программой. Определяет направления коррекционной работы. Формирует банк диагностических методи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Способствует обеспечению полноценного психического развития учащихся на каждом возрастном этап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Ведет плановую коррекционно-развивающую работу с целью создания психологического комфорта в процессе обучения, развития и адапт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Совместно с другими членами ППк участвует в разработке, утверждении и реализации коррекционно-развивающих программ с целью обеспечения полноценного включения их в учебную деятельность и несет ответственность за качество выполнения этих програм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Формирует банк коррекционных методи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Проводит консультативную и просветительскую работу в пределах своей компетен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Повышает уровень своей компетенции исходя из потребностей школьного коллекти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Отслеживает психологическое развитие обучающихся, имеющих особые образовательные потреб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54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овременном этапе в системе образования, педагог-психолог незаменимый специалист в любой образовательной организации, тем более в работе ПП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эффективности работы психологов ОО зависит от соблюдения в практике этических принципов и правил. Объем работы регулярно увеличивается, поэтому важно эффективно использовать активные часы по назначен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ешения возникающих сложных вопросов педагог-психолог образовательной организации может обратиться за консультацией своему методическому руководителю педагогов-психологов района, городскому руководителю, а также в ЦППМСП своих рай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м молодым специалистам (педагогам-психологам) консультативная и методическая помощь оказывается в рамках «Школы молодого специалист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141640" y="963360"/>
            <a:ext cx="634032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41b6"/>
                </a:solidFill>
                <a:latin typeface="Calibri"/>
              </a:rPr>
              <a:t>С пожеланиями профессионального роста и продуктивной работы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41b6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Сергей\Desktop\soc_9.jpg"/>
          <p:cNvPicPr/>
          <p:nvPr/>
        </p:nvPicPr>
        <p:blipFill>
          <a:blip r:embed="rId1"/>
          <a:stretch/>
        </p:blipFill>
        <p:spPr>
          <a:xfrm>
            <a:off x="3262320" y="2916360"/>
            <a:ext cx="40608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4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2160" y="1465200"/>
            <a:ext cx="75232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ее время уделяется максимум внимания созданию специальных образовательных условий для обучающихся, в том числе для детей с ограниченными возможностями здоровья (ОВЗ) во всех образовательных организациях. Для этого необходима упорядоченная, своевременная работа психолого-педагогического консилиума образовательной организ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Пк ОО является одной из форм взаимодействия специалистов, объединяющихся для сопровождения обучающихся с отклонениями в развитии и/или состояниями декомпенсации. Основной целью ППк ОО является создание оптимальных условий обучения, развития, социализации и адаптации детей в соответствии с их возрастными и индивидуальными особенностями и возможност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5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илиум – это постоянно действующий, скоординированный, объединенный общими целями коллектив специалистов, реализующий ту или иную стратегию сопровождения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естный педагог Ю. К. Бабанский отмечал, что «для улучшения изучения школьников надо не увлекаться подробными письменными характеристиками, а сосредоточить усилия н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лективных обсуждениях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ний учителей класса о школьниках и, главное, на коллективной разработке мер индивидуального подхода к ученикам и классу в целом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Сергей\Desktop\AAEAAQAAAAAAAAVfAAAAJDVhMzg3ZDI3LTgzY2MtNDFlYS1hZjcwLWU5NzgyMDEzM2FhNg.jpg"/>
          <p:cNvPicPr/>
          <p:nvPr/>
        </p:nvPicPr>
        <p:blipFill>
          <a:blip r:embed="rId2"/>
          <a:stretch/>
        </p:blipFill>
        <p:spPr>
          <a:xfrm>
            <a:off x="5156280" y="4672080"/>
            <a:ext cx="36986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4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ые функции ППк ОО: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иагностическа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заключается в изучении социальной ситуации развития, определении доминанты развития, потенциальных возможностей и способностей обучающихся, распознавании характера отклонений в их поведении, деятельности и общении;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включает в себя разработку проекта педагогической коррекции в виде ряда учебно-воспитательных мер, рекомендуемых классному руководителю, учителю-предметнику, родителям, ученическому активу и т. д. Эти меры могут носить лечебный, контролирующий, дисциплинирующий, коррекционный, коррекционно-развивающий характер;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еабилитирующа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- предполагает защиту интересов ребенка, попавшего в неблагоприятные семейные или учебно-воспитательные услов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4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ециалисты, включенные в состав ППк, выполняют свои функции в основное рабочее время, составляя индивидуальный план деятельности в соответствии с запросом. На консилиум предоставляются документы от классного руководителя,</a:t>
            </a:r>
            <a:r>
              <a:rPr b="0" lang="ru-RU" sz="2000" spc="-1" strike="noStrike">
                <a:solidFill>
                  <a:srgbClr val="0070c0"/>
                </a:solidFill>
                <a:latin typeface="Calibri"/>
              </a:rPr>
              <a:t> педагога-психолог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ителя-предметника, логопеда, социального педагога, дефектоло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s://gazeta.krl-uprava.ru/files/data/user/dinara/files/2018.12.17-1545048259.8088_20110429070414konferentshia.jpg"/>
          <p:cNvPicPr/>
          <p:nvPr/>
        </p:nvPicPr>
        <p:blipFill>
          <a:blip r:embed="rId2"/>
          <a:stretch/>
        </p:blipFill>
        <p:spPr>
          <a:xfrm>
            <a:off x="2955960" y="3394080"/>
            <a:ext cx="341928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8920" cy="1354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 algn="just"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дагог-психолог начинает свою работу с получения согласия родителей (законных представителей) на обследование и психолого-педагогическое сопровождение детей, разъясняя в доступной форме необходимость проведения запланированных мероприятий, действуя согласно своему плану работы на учебный год или в рамках возникшего запроса ПП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гласие оформляется на соответствующем бланке с указанием перечня используемых методик. Подбор стандартизированных, валидных (надежных) методик педагог-психолог определяет сам, учитывая возрастные особенности обследуемых дете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инпросвещение России, Распоряжение от 09.09.2019г., №Р-93 «Об утверждении примерного Положения о психолого-педагогическом консилиуме образовательной организ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5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45840" y="1465200"/>
            <a:ext cx="786924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гласие родителей (законных представителей) обучающегося на проведение психолого-педагогического обследования специалистами ПП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, 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.И.О родителя (законного представит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номер, серия паспорта, кем и когда выд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вляясь родителем (законным представителем)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Ф.И.О. класс, в котором обучается обучающийся, дата рождения)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ыражаю согласие на проведение психолого-педагогического обслед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уемые методи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та ____________________                                            Подпись 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ts val="11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645840" y="1162080"/>
            <a:ext cx="78692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дивидуальная диагностическая работа начинается с изучения анамнеза ребенка в амбулаторной карте из поликлиники по месту жительства, а также из бесед с родителями(законными представителями). В случае выявленных отклонений в физическом или речевом развитии педагог-психолог при необходимости может просить заключение невролога, психотерапевта, врача-психиатра или логопе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исследуются особенности развития основных психических процессов: внимания, памяти, мышления, восприятия, эмоционально-волевой сферы. Таким образом, педагог-психолог реализует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иагностическу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функцию ППк, а именно распознает причины и их характер отклонений в развитии и/или недостаточном освоении программы обуч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622440" y="-6480"/>
            <a:ext cx="8003880" cy="135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45840" y="914400"/>
            <a:ext cx="78692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ее членами ППк обсуждаются результаты по проведенной диагностической работе и все аспекты создавшейся неблагополучной ситуа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 на данном этапе помогает членам ППк, учителям с разных точек зрения подойти к оценке интеллектуального развития ребенка, основных качеств его личности, пониманию его интересов и склонностей, показывает сложность и неоднозначность проявлений его поведения, отношений со взрослыми и сверстниками, отражает особенности его самооценки, уровня притязаний, эмоционального настроя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менно педагог-психолог должен обеспечить понимание причин отклонения от нормы и с профессиональной позиции разъяснить перспективы его дальнейшего развит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C:\Users\Сергей\Desktop\c76489cca91b29c918532b7a9dab444b.jpg"/>
          <p:cNvPicPr/>
          <p:nvPr/>
        </p:nvPicPr>
        <p:blipFill>
          <a:blip r:embed="rId2"/>
          <a:stretch/>
        </p:blipFill>
        <p:spPr>
          <a:xfrm>
            <a:off x="6792840" y="4697280"/>
            <a:ext cx="225288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8T14:12:19Z</dcterms:created>
  <dc:creator>Markasian, Pavel (KIEVH)</dc:creator>
  <dc:description/>
  <dc:language>en-US</dc:language>
  <cp:lastModifiedBy>User</cp:lastModifiedBy>
  <dcterms:modified xsi:type="dcterms:W3CDTF">2020-02-17T04:24:24Z</dcterms:modified>
  <cp:revision>113</cp:revision>
  <dc:subject/>
  <dc:title>Name of presentation</dc:title>
</cp:coreProperties>
</file>